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75334C-C96D-484F-BC28-F80C75626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BB6DFF-4F61-4834-B095-4DB2A8A10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48DB22-3E20-4B21-B9A0-8C4D7B7FB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0E9D1F-323F-4623-933E-5EE82441F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A7FC5-98FD-4DE5-93F1-F94C209CC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FAE84-62A1-4FAE-B25E-54308C1DE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BFF6F-688A-4BB0-B20A-72D93E78C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53DBA-1801-40C0-B601-BE5762E28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CBAAA-74D4-44DF-90C7-457C5E541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994BF-EA34-4AB7-951C-DF8C7A920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87CB1-A2E7-475E-A78B-F51C12015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7D5261-1B5E-46E0-B35D-B1ABDF0A5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3CC8A-BDD0-4C64-ABAF-2E801003D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13D49-44A2-4FBD-8DF4-745C247C3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73E0E-A5BE-4D33-87A1-C14C09253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C9A01-C2B6-40DF-A375-47B48CA7C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84144-447E-4975-B373-3BE25814F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C30099-E20C-4BAB-888E-21EE01363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003D16-6F4E-4936-9994-F7E8B3DFA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722681-DC35-4383-8896-D6C2B93F5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792CA0-6EFC-47EF-A8FE-2D9B2D8B5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0B1047-14A7-4C0E-82A5-C1B932649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818C11-2108-4A28-AF33-93F3B4FE8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B0D6AC-A581-47FC-8E95-1C95D0A3B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61EB4-4249-4448-AB7A-5D03DCACC6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4357A-0735-49D5-AEA2-BF0C1AA5337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4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LABOR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0" y="18900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Verdana"/>
              </a:rPr>
              <a:t>El nacimiento de una visión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4" name="Picture 6" descr="ttp://content.everydayhealth.com/wte3.0/gcms/surprising-labor-and-delivery-facts-woman-in-labor-full.jpg"/>
          <p:cNvPicPr/>
          <p:nvPr/>
        </p:nvPicPr>
        <p:blipFill>
          <a:blip r:embed="rId1"/>
          <a:stretch/>
        </p:blipFill>
        <p:spPr>
          <a:xfrm>
            <a:off x="592200" y="1773360"/>
            <a:ext cx="3384360" cy="338112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1"/>
          <p:cNvSpPr/>
          <p:nvPr/>
        </p:nvSpPr>
        <p:spPr>
          <a:xfrm>
            <a:off x="4567320" y="2470320"/>
            <a:ext cx="367344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cluya dolor y luch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5840" indent="-2858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5840" indent="-2858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s una buena señal de que algo está por suceder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5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NACIMIENTO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11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ffffff"/>
                </a:solidFill>
                <a:uFillTx/>
                <a:latin typeface="Garamond"/>
              </a:rPr>
              <a:t>Es un celebración!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" name="Rectangle 17"/>
          <p:cNvSpPr/>
          <p:nvPr/>
        </p:nvSpPr>
        <p:spPr>
          <a:xfrm>
            <a:off x="0" y="18900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Verdana"/>
              </a:rPr>
              <a:t>El nacimiento de una visión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8" name="Picture 7" descr="http://sapiengames.com/wp-content/uploads/2014/09/stork.png"/>
          <p:cNvPicPr/>
          <p:nvPr/>
        </p:nvPicPr>
        <p:blipFill>
          <a:blip r:embed="rId1"/>
          <a:stretch/>
        </p:blipFill>
        <p:spPr>
          <a:xfrm>
            <a:off x="5724360" y="1197000"/>
            <a:ext cx="2737080" cy="35082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7" descr=""/>
          <p:cNvPicPr/>
          <p:nvPr/>
        </p:nvPicPr>
        <p:blipFill>
          <a:blip r:embed="rId2"/>
          <a:stretch/>
        </p:blipFill>
        <p:spPr>
          <a:xfrm>
            <a:off x="1116000" y="3573360"/>
            <a:ext cx="3184560" cy="315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0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3"/>
          <p:cNvSpPr/>
          <p:nvPr/>
        </p:nvSpPr>
        <p:spPr>
          <a:xfrm>
            <a:off x="250920" y="1452600"/>
            <a:ext cx="8893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Garamond"/>
              </a:rPr>
              <a:t>Pasos para lograr el cumplimiento de la visión de Dios</a:t>
            </a:r>
            <a:endParaRPr b="0" lang="en-US" sz="7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0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58680" y="2602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s-ES" sz="2700" spc="-1" strike="noStrike">
                <a:solidFill>
                  <a:srgbClr val="ffffff"/>
                </a:solidFill>
                <a:latin typeface="Garamond"/>
              </a:rPr>
              <a:t>Recorría Jesús todas las ciudades y aldeas, enseñando en las sinagogas de ellos, y predicando el evangelio del reino, y sanando toda enfermedad y toda dolencia en el pueblo. Y al ver las multitudes, tuvo compasión de ellas; porque estaban desamparadas y dispersas como ovejas que no tienen pastor. Entonces dijo a sus discípulos: A la verdad la mies es mucha, mas los obreros pocos. Rogad, pues, al Señor de la mies, que envíe obreros a su mies. Entonces llamando a sus doce discípulos, les dio autoridad sobre los espíritus inmundos, para que los echasen fuera, y para sanar toda enfermedad y toda dolencia. … A estos doce envió Jesús, y les dio instrucciones, diciendo: …Y yendo, predicad, diciendo: El reino de los cielos se ha acercado. Sanad enfermos, limpiad leprosos, resucitad muertos, echad fuera demonios; de gracia recibisteis, dad de gracia.” (Mateo 9:35-10:8)</a:t>
            </a:r>
            <a:endParaRPr b="0" lang="en-US" sz="27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0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0" y="1413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5605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ÓNGASE ACTIVO EN EL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SERVICIO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E INICIE CON OBEDIENCIA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605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OMUNIQUE LA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REVELACIÓN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QUE YA TIENE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605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OBSERVE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Y ENTIENDA LA REALIDAD DE LA CONDICIÓN HUMANA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605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4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ERMITA QUE DIOS LE DE UNA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CARGA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POR UNA NECESIDAD ESPECÍFICA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605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Text Box 9"/>
          <p:cNvSpPr/>
          <p:nvPr/>
        </p:nvSpPr>
        <p:spPr>
          <a:xfrm>
            <a:off x="0" y="0"/>
            <a:ext cx="9144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asos para lograr el cumplimiento de la visión de Dios (Mateo 9:35-10:8):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0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0" y="1412640"/>
            <a:ext cx="9144000" cy="433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83480" indent="-483480">
              <a:spcBef>
                <a:spcPts val="1800"/>
              </a:spcBef>
              <a:buClr>
                <a:srgbClr val="ffffff"/>
              </a:buClr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BUSQUE EL DIAGNÓSTICO DIVINO: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¿CUÁL ES EL ASUNTO POR RESOLVER 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83480" indent="-483480">
              <a:spcBef>
                <a:spcPts val="1800"/>
              </a:spcBef>
              <a:buClr>
                <a:srgbClr val="ffffff"/>
              </a:buClr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ORE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PARA DETERMINAR CUAL ACCIÓN PUEDE SUPLIR ESA NECESIDA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83480" indent="-48348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ELIJA UN EQUIPO Y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DÉLES PODER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PARA COLABORAR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83480" indent="-483480"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TOME ACCIÓN INMEDIATA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PARA EL     CUMPLIMIENTO DE LA VISIÓ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83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lograr el cumplimiento de la visión de Dios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0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4"/>
          <p:cNvSpPr/>
          <p:nvPr/>
        </p:nvSpPr>
        <p:spPr>
          <a:xfrm>
            <a:off x="0" y="5605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¿Qué voz inspira su visión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7" name="Text Box 13"/>
          <p:cNvSpPr/>
          <p:nvPr/>
        </p:nvSpPr>
        <p:spPr>
          <a:xfrm>
            <a:off x="0" y="1628640"/>
            <a:ext cx="9144000" cy="346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a voz interna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a voz del enojo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a voz del éxito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4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a voz de lo alto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8" name="Picture 3" descr=""/>
          <p:cNvPicPr/>
          <p:nvPr/>
        </p:nvPicPr>
        <p:blipFill>
          <a:blip r:embed="rId1"/>
          <a:stretch/>
        </p:blipFill>
        <p:spPr>
          <a:xfrm>
            <a:off x="5364000" y="4192560"/>
            <a:ext cx="3302280" cy="23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0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4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5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2"/>
          <p:cNvSpPr/>
          <p:nvPr/>
        </p:nvSpPr>
        <p:spPr>
          <a:xfrm>
            <a:off x="0" y="2097000"/>
            <a:ext cx="9144000" cy="53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: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Comienzo fuert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2: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Un tema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3: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Lenguaje sencillo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4: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Ilustraciones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5: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Final emotivo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0" y="64296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Elementos para comunicar su visió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1" name="Picture 5" descr="http://1.bp.blogspot.com/--PA0ynWyff4/UcZZQi2xbII/AAAAAAAANBM/9k8eZQOOxFw/s1600/%E5%B7%A5%E5%85%B7%E7%AE%B1+Cartoons+toolbox+vector+material+%E3%82%A4%E3%83%A9%E3%82%B9%E3%83%88%E7%B4%A0%E6%9D%90.jpg"/>
          <p:cNvPicPr/>
          <p:nvPr/>
        </p:nvPicPr>
        <p:blipFill>
          <a:blip r:embed="rId1"/>
          <a:stretch/>
        </p:blipFill>
        <p:spPr>
          <a:xfrm>
            <a:off x="5435640" y="4235400"/>
            <a:ext cx="3706920" cy="26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nodeType="clickEffect" fill="hold">
                      <p:stCondLst>
                        <p:cond delay="0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9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9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5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9" dur="5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Cómo debemos manejar la visión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0" y="1915920"/>
            <a:ext cx="9144000" cy="49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Véala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CLARAMENT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Muéstrela </a:t>
            </a:r>
            <a:br>
              <a:rPr sz="4000"/>
            </a:b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CREATIVAMENT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Comuníquela </a:t>
            </a:r>
            <a:br>
              <a:rPr sz="4000"/>
            </a:b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CONSTANTEMENT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4" name="Picture 5" descr="http://images.clipartpanda.com/creativity-clipart-62367-design-mascot-woman-painter.jpg"/>
          <p:cNvPicPr/>
          <p:nvPr/>
        </p:nvPicPr>
        <p:blipFill>
          <a:blip r:embed="rId1"/>
          <a:stretch/>
        </p:blipFill>
        <p:spPr>
          <a:xfrm>
            <a:off x="5916600" y="2492280"/>
            <a:ext cx="3106800" cy="26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nodeType="clickEffect" fill="hold">
                      <p:stCondLst>
                        <p:cond delay="0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01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06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0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14" dur="5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781FA-B512-46AC-A1CB-F82FAB30E6A6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" name="Text Box 4"/>
          <p:cNvSpPr/>
          <p:nvPr/>
        </p:nvSpPr>
        <p:spPr>
          <a:xfrm>
            <a:off x="0" y="620640"/>
            <a:ext cx="9144000" cy="49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600" spc="-1" strike="noStrike">
                <a:solidFill>
                  <a:srgbClr val="ffffff"/>
                </a:solidFill>
                <a:latin typeface="Garamond"/>
              </a:rPr>
              <a:t>¿Preguntas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600" spc="-1" strike="noStrike">
                <a:solidFill>
                  <a:srgbClr val="ffffff"/>
                </a:solidFill>
                <a:latin typeface="Garamond"/>
              </a:rPr>
              <a:t>o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ffffff"/>
                </a:solidFill>
                <a:latin typeface="Garamond"/>
              </a:rPr>
              <a:t>Comentarios?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0" y="1125360"/>
            <a:ext cx="914400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Garamond"/>
              </a:rPr>
              <a:t>¡Tengo un sueño!</a:t>
            </a:r>
            <a:endParaRPr b="0" lang="en-US" sz="8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Garamond"/>
              </a:rPr>
              <a:t>Capturando e implementando una visión dada por Dios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Garamond"/>
              </a:rPr>
              <a:t>Lección #3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2"/>
          <p:cNvSpPr/>
          <p:nvPr/>
        </p:nvSpPr>
        <p:spPr>
          <a:xfrm>
            <a:off x="1332000" y="836640"/>
            <a:ext cx="7488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¿</a:t>
            </a: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Qué es una visión?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84" name="Picture 3" descr=""/>
          <p:cNvPicPr/>
          <p:nvPr/>
        </p:nvPicPr>
        <p:blipFill>
          <a:blip r:embed="rId1"/>
          <a:stretch/>
        </p:blipFill>
        <p:spPr>
          <a:xfrm>
            <a:off x="485640" y="2708280"/>
            <a:ext cx="817272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2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¿Qué es una visión?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0" y="1700280"/>
            <a:ext cx="9144000" cy="643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5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s-ES" sz="40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s-ES" sz="4000" spc="-1" strike="noStrike">
                <a:solidFill>
                  <a:srgbClr val="ffffff"/>
                </a:solidFill>
                <a:latin typeface="Garamond"/>
              </a:rPr>
              <a:t>Visión es ver el futuro, en el presente, construido sobre el pasado.”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“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Visión es ver lo invisible y convertirlo en visible.”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Visión es un puente de información del presente a un mejor futuro.”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8"/>
          <p:cNvSpPr/>
          <p:nvPr/>
        </p:nvSpPr>
        <p:spPr>
          <a:xfrm>
            <a:off x="0" y="1341360"/>
            <a:ext cx="9144000" cy="40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NA CLARA IMAGEN DE UN MEJOR MAÑANA, DADO POR DIOS, QUE MUEVE A UNA PERSONA A CREER NO SOLAMENTE QUÉ PUEDE SER HECHO, SINO QUÉ DEBE SER HECHO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8" name="Text Box 16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¿Qué es una visión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9"/>
          <p:cNvSpPr/>
          <p:nvPr/>
        </p:nvSpPr>
        <p:spPr>
          <a:xfrm>
            <a:off x="0" y="0"/>
            <a:ext cx="91440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Note los ingredientes de una visión divina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Text Box 12"/>
          <p:cNvSpPr/>
          <p:nvPr/>
        </p:nvSpPr>
        <p:spPr>
          <a:xfrm>
            <a:off x="0" y="1312920"/>
            <a:ext cx="9144000" cy="46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na clara pintura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n cambio positivo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n enfoque futuro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4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n regalo de Dio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5.</a:t>
            </a:r>
            <a:r>
              <a:rPr b="1" lang="en-US" sz="40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Gente y tiempo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scogido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91" name="Picture 3" descr=""/>
          <p:cNvPicPr/>
          <p:nvPr/>
        </p:nvPicPr>
        <p:blipFill>
          <a:blip r:embed="rId1"/>
          <a:stretch/>
        </p:blipFill>
        <p:spPr>
          <a:xfrm>
            <a:off x="4284720" y="4941720"/>
            <a:ext cx="4728960" cy="18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0000"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1.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INTIMIDAD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8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Tienes que pasar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tiempo con el Señor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   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Rectangle 17"/>
          <p:cNvSpPr/>
          <p:nvPr/>
        </p:nvSpPr>
        <p:spPr>
          <a:xfrm>
            <a:off x="0" y="18900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3000"/>
          </a:bodyPr>
          <a:p>
            <a:pPr marL="586080" indent="-586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Verdana"/>
              </a:rPr>
              <a:t>El nacimiento de una visió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94" name="Picture 7" descr="http://pinchofgrace.files.wordpress.com/2011/08/silhouette-of-woman-praying.jpg"/>
          <p:cNvPicPr/>
          <p:nvPr/>
        </p:nvPicPr>
        <p:blipFill>
          <a:blip r:embed="rId1"/>
          <a:srcRect l="10321" t="5359" r="5848" b="3805"/>
          <a:stretch/>
        </p:blipFill>
        <p:spPr>
          <a:xfrm>
            <a:off x="5867280" y="2343240"/>
            <a:ext cx="2881440" cy="41511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0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2.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CONCEPCIÓ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Rectangle 17"/>
          <p:cNvSpPr/>
          <p:nvPr/>
        </p:nvSpPr>
        <p:spPr>
          <a:xfrm>
            <a:off x="0" y="18900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3000"/>
          </a:bodyPr>
          <a:p>
            <a:pPr marL="586080" indent="-586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Verdana"/>
              </a:rPr>
              <a:t>El nacimiento de una visió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97" name="Picture 5" descr="http://ec.l.thumbs.canstockphoto.com/canstock2777881.jpg"/>
          <p:cNvPicPr/>
          <p:nvPr/>
        </p:nvPicPr>
        <p:blipFill>
          <a:blip r:embed="rId1"/>
          <a:srcRect l="3420" t="21882" r="0" b="20314"/>
          <a:stretch/>
        </p:blipFill>
        <p:spPr>
          <a:xfrm>
            <a:off x="2475000" y="3840120"/>
            <a:ext cx="4194000" cy="294336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2"/>
          <p:cNvSpPr/>
          <p:nvPr/>
        </p:nvSpPr>
        <p:spPr>
          <a:xfrm>
            <a:off x="250920" y="2033640"/>
            <a:ext cx="8642160" cy="15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mpieza pequeno y crec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285840" indent="-285840"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arecerá a Dios y tú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6000"/>
          </a:bodyPr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3.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GESTACIÓ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80080" indent="-280080">
              <a:spcBef>
                <a:spcPts val="1800"/>
              </a:spcBef>
              <a:spcAft>
                <a:spcPts val="1800"/>
              </a:spcAft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Es el período más largo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de todo el proceso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0080" indent="-280080">
              <a:spcBef>
                <a:spcPts val="18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La visión de Dios va a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estirarte!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Garamond"/>
            </a:endParaRPr>
          </a:p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0" name="Rectangle 17"/>
          <p:cNvSpPr/>
          <p:nvPr/>
        </p:nvSpPr>
        <p:spPr>
          <a:xfrm>
            <a:off x="0" y="18900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Verdana"/>
              </a:rPr>
              <a:t>El nacimiento de una visión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1" name="Picture 5" descr="http://www.clipartbest.com/cliparts/ncE/a96/ncEa96acA.png"/>
          <p:cNvPicPr/>
          <p:nvPr/>
        </p:nvPicPr>
        <p:blipFill>
          <a:blip r:embed="rId1"/>
          <a:stretch/>
        </p:blipFill>
        <p:spPr>
          <a:xfrm>
            <a:off x="6931080" y="1182600"/>
            <a:ext cx="2047680" cy="539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0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5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7T20:54:29Z</dcterms:created>
  <dc:creator>Kevin Donaldson</dc:creator>
  <dc:description/>
  <dc:language>en-US</dc:language>
  <cp:lastModifiedBy>Bryan Cyr</cp:lastModifiedBy>
  <dcterms:modified xsi:type="dcterms:W3CDTF">2016-09-13T21:37:13Z</dcterms:modified>
  <cp:revision>77</cp:revision>
  <dc:subject/>
  <dc:title>PowerPoint Presentation</dc:title>
</cp:coreProperties>
</file>